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550-4FA8-4773-AFD2-910A97BF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E95-2C0B-4BB7-ABF3-11AE2E50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076-D6BC-43AF-AE5C-068F5E8B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ED2-20BB-45DC-8ADB-056F52A7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02F-74BF-492A-AB27-DF70D82E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E36-1A1D-43EE-9210-231695E4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631-8E82-44BA-9D59-731861E5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89E-44E5-4FA0-AFB0-86110C09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49E-C545-479C-B66F-B639762F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C51-FFBD-4F8D-96E6-8631D470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329-845F-4985-837A-2664476A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CC48-BB9D-4B20-9570-79AF062E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6C7D-ED9D-45B9-9215-FEA9BF36B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this bread and this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do as our Saviour comman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elebrate the redem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 has won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34:20Z</dcterms:created>
  <dc:creator>Anon Anon</dc:creator>
  <dc:description/>
  <dc:language>en-US</dc:language>
  <cp:lastModifiedBy>Anon Anon</cp:lastModifiedBy>
  <dcterms:modified xsi:type="dcterms:W3CDTF">2005-08-09T05:10:19Z</dcterms:modified>
  <cp:revision>8</cp:revision>
  <dc:subject/>
  <dc:title>PowerPoint Presentation</dc:title>
</cp:coreProperties>
</file>